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F41-46D3-47AB-B50A-12BDC548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8B3-46CB-4DE5-89F1-F9C16CE3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330-269B-43E3-87D6-6190B81A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932-A2C0-4BB2-A358-8DB519EA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17E0-D42D-41D9-B1E3-9DD32053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187-1674-4081-8FFF-B70C9226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B1A4-9D89-4CDB-9244-D58811F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64C5-9460-4CF2-AE0C-B26722B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E80-1B87-455B-86CF-581651C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98F0-1D75-459B-A37D-42397F3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ACC0-61BA-4500-8DC2-6A4A0361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7DC-556B-4F75-A345-4A97411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9511-8927-4C16-8F54-5E6C1A21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8211-3E15-4051-978E-3285ED2A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7DC-A30E-4E54-8E70-DE1B01C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523D-5169-4B45-B9D7-EDA5EE69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2C9-99E2-4E0B-8FDC-44AC7FCA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166-849D-4EA2-94F2-23AC20D6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4391-B292-4F75-86AD-DD0212E0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1F2-C256-4F12-A091-6101C45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73F-D146-421A-9061-4AF8A7A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4C8-04C9-4816-A446-5F56435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F7D-E018-4099-9A1C-D98AD19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CBE-6F84-4632-B14E-500B45AE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6B84-0116-4939-8BE2-9A60A675A8A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F8B4-93C6-49DB-81F9-ECF4BDA9F0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rigami-school.narod.ru/page_041.htm" TargetMode="External"/><Relationship Id="rId3" Type="http://schemas.openxmlformats.org/officeDocument/2006/relationships/hyperlink" Target="http://www.openclass.ru/lessons/210628" TargetMode="External"/><Relationship Id="rId4" Type="http://schemas.openxmlformats.org/officeDocument/2006/relationships/hyperlink" Target="http://www.proshkolu.ru/tag/47710" TargetMode="External"/><Relationship Id="rId5" Type="http://schemas.openxmlformats.org/officeDocument/2006/relationships/hyperlink" Target="http://kiryanova1977.ucoz.ru/load/vneklassnaja_dejatelnost/programma_kruzhka_khudozhestvenno_tvorcheskoj_napravlennosti_quot_korob_chudes_quot/4-1-0-7" TargetMode="External"/><Relationship Id="rId6" Type="http://schemas.openxmlformats.org/officeDocument/2006/relationships/hyperlink" Target="http://www.zankov.ru/exp/article=2206/" TargetMode="External"/><Relationship Id="rId7" Type="http://schemas.openxmlformats.org/officeDocument/2006/relationships/hyperlink" Target="http://www.studio-art.ru/book.html" TargetMode="External"/><Relationship Id="rId8" Type="http://schemas.openxmlformats.org/officeDocument/2006/relationships/hyperlink" Target="http://festival.1september.ru/articles/503938/" TargetMode="External"/><Relationship Id="rId9" Type="http://schemas.openxmlformats.org/officeDocument/2006/relationships/hyperlink" Target="http://festival.1september.ru/articles/subjects/20" TargetMode="External"/><Relationship Id="rId10" Type="http://schemas.openxmlformats.org/officeDocument/2006/relationships/hyperlink" Target="http://www.den-za-dnem.ru/page.php?article=53" TargetMode="External"/><Relationship Id="rId11" Type="http://schemas.openxmlformats.org/officeDocument/2006/relationships/hyperlink" Target="http://museum.npstoik.ru/" TargetMode="External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leaf?id=0B7lvS7DD19zFZDQwODZiMmQtN2U1NC00YWIyLTlhMzUtN2FmNjUwOTg2YTky&amp;hl=ru" TargetMode="External"/><Relationship Id="rId3" Type="http://schemas.openxmlformats.org/officeDocument/2006/relationships/hyperlink" Target="http://standart.edu.ru/catalog.aspx?CatalogId=985" TargetMode="External"/><Relationship Id="rId4" Type="http://schemas.openxmlformats.org/officeDocument/2006/relationships/hyperlink" Target="http://metodisty.ru/forum/groups/topic/festival_detskih_i_molodezhnyh_tea" TargetMode="External"/><Relationship Id="rId5" Type="http://schemas.openxmlformats.org/officeDocument/2006/relationships/hyperlink" Target="http://www.proshkolu.ru/user/eremeeva40/blog/110611" TargetMode="External"/><Relationship Id="rId6" Type="http://schemas.openxmlformats.org/officeDocument/2006/relationships/hyperlink" Target="http://stranamasterov.ru/" TargetMode="External"/><Relationship Id="rId7" Type="http://schemas.openxmlformats.org/officeDocument/2006/relationships/hyperlink" Target="http://www.elena-kuzmina.ru/31" TargetMode="External"/><Relationship Id="rId8" Type="http://schemas.openxmlformats.org/officeDocument/2006/relationships/hyperlink" Target="http://moikompas.ru/compas/origami" TargetMode="External"/><Relationship Id="rId9" Type="http://schemas.openxmlformats.org/officeDocument/2006/relationships/hyperlink" Target="http://www.origami.ru/" TargetMode="External"/><Relationship Id="rId10" Type="http://schemas.openxmlformats.org/officeDocument/2006/relationships/hyperlink" Target="http://www.origami.kulichki.ru/" TargetMode="External"/><Relationship Id="rId11" Type="http://schemas.openxmlformats.org/officeDocument/2006/relationships/hyperlink" Target="http://www.ucazka.ucoz.ru/" TargetMode="External"/><Relationship Id="rId12" Type="http://schemas.openxmlformats.org/officeDocument/2006/relationships/hyperlink" Target="http://planuroka.ru/archives/939/" TargetMode="External"/><Relationship Id="rId13" Type="http://schemas.openxmlformats.org/officeDocument/2006/relationships/hyperlink" Target="http://tapisarevskaya.rusedu.net/post/1415/15614" TargetMode="External"/><Relationship Id="rId14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441440"/>
            <a:ext cx="907092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Концепция</a:t>
            </a: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 духовно - нравственного развития и воспитания.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2300dc"/>
                </a:solidFill>
                <a:latin typeface="Arial"/>
              </a:rPr>
              <a:t>Внеурочная деятельность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" y="4859280"/>
            <a:ext cx="9070920" cy="185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разде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омощь учител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5520" y="212760"/>
          <a:ext cx="9796680" cy="6759360"/>
        </p:xfrm>
        <a:graphic>
          <a:graphicData uri="http://schemas.openxmlformats.org/drawingml/2006/table">
            <a:tbl>
              <a:tblPr/>
              <a:tblGrid>
                <a:gridCol w="4961160"/>
                <a:gridCol w="483552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http://origami-school.narod.ru/page_041.ht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Волшебный мир оригам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3caff"/>
                    </a:solidFill>
                  </a:tcPr>
                </a:tc>
              </a:tr>
              <a:tr h="87912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www.openclass.ru/lessons/2106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по рисованию "Акварель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р Чегаева Светлана Ивановна (требуется регистрац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94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www.proshkolu.ru/tag/477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: кружка по ИЗО для 1- 4 кл, кружка "Эскиз", кружка компьютерной граф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kiryanova1977.ucoz.ru/load/vneklassnaja_dejatelnost/programma_kruzhka_khudozhestvenno_tvorcheskoj_napravlennosti_quot_korob_chudes_quot/4-1-0-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художественно-творческой направленности "Короб чудес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0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www.zankov.ru/exp/article=2206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внеурочной деятельности «Школьная сказ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/>
                        </a:rPr>
                        <a:t>http://www.studio-art.ru/book.html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нига секретов оформления воздушными ша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244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/>
                        </a:rPr>
                        <a:t>http://festival.1september.ru/articles/503938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ценарий демонстрации моделей школьного дефи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794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/>
                        </a:rPr>
                        <a:t>http://festival.1september.ru/articles/subjects/20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исок статей фестиваля педагогических идей "Открытый урок" на тему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7876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/>
                        </a:rPr>
                        <a:t>http://www.den-za-dnem.ru/page.php?article=53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я Ю.Б. Яхно «Школьный музей, как составляющая открытого образовательного пространств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http://museum.npstoik.ru/</a:t>
                      </a:r>
                      <a:r>
                        <a:rPr b="0" lang="en-US" sz="1800" spc="-1" strike="noStrike" u="sng">
                          <a:solidFill>
                            <a:srgbClr val="000080"/>
                          </a:solidFill>
                          <a:uFillTx/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тал "Школа. Музей. Интернет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лагодарим за внима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надеемся наша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300dc"/>
                </a:solidFill>
                <a:latin typeface="Arial"/>
              </a:rPr>
              <a:t>будет вам полез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47280" y="1153800"/>
            <a:ext cx="9070920" cy="580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егина Ири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Сам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узова Августина Анатольевна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Нижегород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маз Исраиль гызы Хаср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Баку, Азербайдж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лынцева Юлия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амарская об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етова Елена Викторо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кина Юлия Юрьев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. Мурманс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ллективная работ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452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ые названия   факультативных курс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546200"/>
            <a:ext cx="907092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    Театр нашего класса (Классный теат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    Кружок декоративно прикладн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Танцевальный коллек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Музыкальная копи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  Компьютерный дизайн ремесленных навыков "Мастер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  Город маст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     Наша фант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     Очень умелые ру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     Театральный фестиваль "Театрали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тавочный зал"Трудовичек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Ритмика и танец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  Ори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деса апп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красоты и грации  "Жемчужин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б чуд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ьная  изосту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 юных модельеров "Намоднен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орческая группа для создания дизайна и ведения сай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ей "Жизнь, традиции и искусство малых народов кра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7840" y="2962440"/>
          <a:ext cx="9691560" cy="4340160"/>
        </p:xfrm>
        <a:graphic>
          <a:graphicData uri="http://schemas.openxmlformats.org/drawingml/2006/table">
            <a:tbl>
              <a:tblPr/>
              <a:tblGrid>
                <a:gridCol w="4640400"/>
                <a:gridCol w="505116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80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музея декоративно -прикладного творчеств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ство с видами искус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384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работ из овощей и фруктов  и цветов «Осенний букет» (школьный праздник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оциальных знаний. развитие ценностных отношений в родной природе,к культурному наследию своего Участие в районном конкурсе декоративно-прикладного творчества края,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йонном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удожественное творчество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899640"/>
            <a:ext cx="925200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Развитие стремления к творческой самореализации средствами художественной деятельности, саморазвитие и развитие личности каждого ребёнка в процессе освоения мира через его собственную творческую предметную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79280" y="179280"/>
          <a:ext cx="9813960" cy="7240320"/>
        </p:xfrm>
        <a:graphic>
          <a:graphicData uri="http://schemas.openxmlformats.org/drawingml/2006/table">
            <a:tbl>
              <a:tblPr/>
              <a:tblGrid>
                <a:gridCol w="4838760"/>
                <a:gridCol w="4975200"/>
              </a:tblGrid>
              <a:tr h="50328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93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урсия на предприятие (Городецкая роспись, строчевышевальная фабрика и т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9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визитных карточек "Промыслы нашего кра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248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туальная экскурсия "Город мастеров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2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 веток, корней необычной формы, семян и др. природных матери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193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кукол из папье-маше для кукольного теат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к родному Отечеству, его культурному наследию, к труд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541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-декорация «Сказочный домик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дейст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6544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 конкурсе декоративно-прикла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79280"/>
          <a:ext cx="9720360" cy="707040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47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в технике изонить "Волшебная ниточ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1484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работ из готовых форм "Мастерил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Праздник русской матрёшки."(Знакомство с видами росписи матрёшки: хохлома, полхов- майдан, загорская, семёновская.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 школьниками знаний об отношении к памятникам истории и культуры,  к людям других поколений и социальных групп. 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8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а семейных коллективных творческих работ "Мы вместе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07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28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мастер-кла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дошкольников по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9280" y="179280"/>
          <a:ext cx="9720360" cy="717516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44064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1660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театрализованного представления о ремёслах нашего края, показ спектакля в детском саду или детском д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36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аготворительная выставка поделок, выполненных в освоенной технике ремесл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032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е подарков в стиле прикладных ремёсел для детей из детского дома "Открой своё сердце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детского дома, организация совместных социальных действий - этнографических  экскурсий, туристических походов по историческим мест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42992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урс компьютерных изделий  "Я, моя семья, мой край" (моделирование изделий ремесленных промыс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социального действия, применение метапредметных навыковПолучение опыта самостоятельного социального действия, применение метапредметных навы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90180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роект "Протяни руку другу" (передача полученного опыта другим людя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79280"/>
          <a:ext cx="9720360" cy="4914720"/>
        </p:xfrm>
        <a:graphic>
          <a:graphicData uri="http://schemas.openxmlformats.org/drawingml/2006/table">
            <a:tbl>
              <a:tblPr/>
              <a:tblGrid>
                <a:gridCol w="4599000"/>
                <a:gridCol w="5121360"/>
              </a:tblGrid>
              <a:tr h="552600"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ы деятельност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результат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16390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ная деятельность - создание коллекции по теме (в теме можно отразить любое из направлений воспитательной деятельности, н-р "Костюм времени года", "Современный национальный костюм"и т.д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самостоятельного опыта социального взаимодействия,сопереживания, умения понять поступки и действия других лю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894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авки "Малые народы. (например саамы, поморы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радиции и искусств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ценностного отношения к социальной реальности, осмысление культурного наследия, освоение приёмов   народного творче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е опыта переживания и положительного отношения к базовым ценностя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8283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интернете, для составления программы внеурочной деятельности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2680" y="1649520"/>
          <a:ext cx="9980640" cy="5801760"/>
        </p:xfrm>
        <a:graphic>
          <a:graphicData uri="http://schemas.openxmlformats.org/drawingml/2006/table">
            <a:tbl>
              <a:tblPr/>
              <a:tblGrid>
                <a:gridCol w="3059280"/>
                <a:gridCol w="6921360"/>
              </a:tblGrid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исание рес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6cc"/>
                    </a:solidFill>
                  </a:tcPr>
                </a:tc>
              </a:tr>
              <a:tr h="500040">
                <a:tc>
                  <a:txBody>
                    <a:bodyPr lIns="90000" rIns="90000" tIns="8208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/>
                        </a:rPr>
                        <a:t>https://docs.google.com/leaf?id=0B7lvS7DD19zFZDQwODZiMmQtN2U1NC00YWIyLTlhMzUtN2FmNjUwOTg2YTky&amp;hl=ru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ческий конструктор по внеурочной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6130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http://standart.edu.ru/catalog.aspx?CatalogId=98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пция духовно-нравственного развития и воспитания личности гражданина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http://metodisty.ru/forum/groups/topic/festival_detskih_i_molodezhnyh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стиваль детских и молодёжных спектак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8488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http://www.proshkolu.ru/user/eremeeva40/blog/1106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ая программа по внеурочной деятельности по духовно-нравственному направлению Клуб "Растим патриотов России" Автор-составитель: Т.А. Еремеева учитель начальных к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377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/>
                        </a:rPr>
                        <a:t>http://stranamasterov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«Художественное творчество» Автор: Проснякова Т.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1433880">
                <a:tc>
                  <a:txBody>
                    <a:bodyPr lIns="90000" rIns="90000" tIns="59400" bIns="46800" anchor="t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7"/>
                        </a:rPr>
                        <a:t>www.elena-kuzmina.ru/31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8"/>
                        </a:rPr>
                        <a:t>http://moikompas.ru/compas/origami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9"/>
                        </a:rPr>
                        <a:t>www.origam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ccccff"/>
                          </a:solidFill>
                          <a:uFillTx/>
                          <a:latin typeface="georgia;serif"/>
                          <a:hlinkClick r:id="rId10"/>
                        </a:rPr>
                        <a:t>www.origami.kulichki.ru</a:t>
                      </a:r>
                      <a:r>
                        <a:rPr b="0" lang="en-US" sz="1400" spc="-1" strike="noStrike" u="sng">
                          <a:solidFill>
                            <a:srgbClr val="000080"/>
                          </a:solidFill>
                          <a:uFillTx/>
                          <a:latin typeface="georgia;serif"/>
                        </a:rPr>
                        <a:t> 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работы кружка "Театр-творчество-дети"-108 ча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сылки на ориг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1556280"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/>
                        </a:rPr>
                        <a:t>www.ucazka.ucoz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/>
                        </a:rPr>
                        <a:t>http://planuroka.ru/archives/939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/>
                        </a:rPr>
                        <a:t>http://tapisarevskaya.rusedu.net/post/1415/156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943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театрального кружка "Мир фантазий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"Умелые руки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а кружка «Бумажные и пластилиновые фантази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11:00Z</dcterms:created>
  <dc:creator>ansi </dc:creator>
  <dc:description/>
  <dc:language>en-US</dc:language>
  <cp:lastModifiedBy>ansi </cp:lastModifiedBy>
  <dcterms:modified xsi:type="dcterms:W3CDTF">2011-08-09T14:56:00Z</dcterms:modified>
  <cp:revision>1</cp:revision>
  <dc:subject/>
  <dc:title/>
</cp:coreProperties>
</file>